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4B7-CA11-4E3A-A6AD-44F1B399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D7F-C9EF-49F6-8D4B-785BBE2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FFC-F2A8-4FDF-991A-2A65AAB2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2F1-5779-46E0-9A93-BCF28172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FC1-A26F-4479-9154-061E61A1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5FD-287D-4FD5-8265-84DFDFA3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898-BA9A-4492-9F9C-9620054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FDF-4A24-4AD1-A395-798D3778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38C-CE50-477F-80E3-25A0598A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244-A24B-4179-BA4D-D38396E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F55-2B54-4CC7-96AE-8A1DE27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283-F33D-476B-87E0-F558447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409-C820-4F0F-8AD4-11F71C04F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x senten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targets this term are to extend our sentences to give more information to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PE00014_"/>
          <p:cNvPicPr/>
          <p:nvPr/>
        </p:nvPicPr>
        <p:blipFill>
          <a:blip r:embed="rId1"/>
          <a:stretch/>
        </p:blipFill>
        <p:spPr>
          <a:xfrm>
            <a:off x="1371600" y="990720"/>
            <a:ext cx="18144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end these sentences using: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ug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cat sat on the mat.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is is a simple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he could curl up and go to sle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e was waiting for his t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weather was cold out side the cat always sat on the mat in front of the f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 was the warmest place in the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oug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cat was really hungry for its tea it sat patiently on the 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m:  Use the following words to give more information about someone or something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.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is is a simple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had long red hai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wiftly into the class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se red hair sparkled as the light caught i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lowly and confidently into the class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 by now was filled with childre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was now feeling extremely nervou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teadily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 by now was filled with peop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were busily getting ready for the start of the 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y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d been allocated to her on arrival at the school earlier this mor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more information about someone or something using words like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your WAIBS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irl, with flaming red hair and freckles on her nose, walked into the classroom, all heads turned to stare at 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s feeling very nervous by now,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lthoug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e really felt like bolting out of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is was her first day at her new school, the girl thrust back her shoulders confidently and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now was packed with child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9:07:16Z</dcterms:created>
  <dc:creator>Home</dc:creator>
  <dc:description/>
  <dc:language>en-US</dc:language>
  <cp:lastModifiedBy>08741039</cp:lastModifiedBy>
  <dcterms:modified xsi:type="dcterms:W3CDTF">2009-07-14T23:48:11Z</dcterms:modified>
  <cp:revision>2</cp:revision>
  <dc:subject/>
  <dc:title>Complex sentences </dc:title>
</cp:coreProperties>
</file>